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CEDD-8DEF-411D-9BDA-F8F39AE6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D44-65C5-438C-AA47-34F0D9BE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0D4C-CC5D-4A76-B516-598007FA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945E-6147-4FD8-BDB2-F1348570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C3C4-F614-4005-97D4-EE1303F8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6F5E-28E6-4DFC-8BAF-E5DDE5F2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E18B-94CF-40A8-B51A-4855CE07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1695-E557-4372-9500-40F49B0B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C44E-6FE8-461E-98FF-9AFFB2A6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3D21-87A9-4CE7-8A6A-35C5DD60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3DB9-9770-419A-B47D-E9B9F586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BF3C-882B-4920-84BD-32241359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2EF4-8AFC-4EEA-A496-8834B95A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3A37-5329-4A04-815B-B4CA8E52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4AE5-C1D2-4583-9DBE-A7C50620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3943-0EBD-45F9-A679-2B6297BD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E69A-D39E-4573-83F2-E7649EE5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CAFA-D8DC-477E-89BE-1713542D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B757-4793-47F9-A19B-163B9B9C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A75-15AE-4EC5-A180-1242704E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EC25-D905-4CA8-B8D9-0D71E00B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D0FB-6BA5-4F9B-A9E6-1B45D194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F839-712C-4980-ABFC-3244630C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07BD-943A-4877-BF04-C56BC315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ED3C-694D-4F13-AC24-3C593FD975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6A5C-692E-4FE8-AFA0-67DCC3C3FC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множение положительных и отрицательных чисе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4" descr=""/>
          <p:cNvPicPr/>
          <p:nvPr/>
        </p:nvPicPr>
        <p:blipFill>
          <a:blip r:embed="rId1"/>
          <a:stretch/>
        </p:blipFill>
        <p:spPr>
          <a:xfrm>
            <a:off x="179280" y="4508640"/>
            <a:ext cx="8964720" cy="2160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1170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множи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-2) ∙ 3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(-2) ∙ 3 = (-2) + (-2) + (-2) =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множи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 ∙ (-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переместительному закону умножения (а∙в=в∙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ahoma"/>
              </a:rPr>
              <a:t>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 ∙  (-3) = (-3) ∙ 2 =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бы перемножить два числа с разными знаками, надо перемножить модули этих чисел и поставить перед полученным числом знак «минус»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-5) ∙ 3 = -(5 ∙ 3) = -15;     8 ∙ (-6) = -(8 ∙ 6) = -48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Умножение чисел с разными знакам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4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033800" cy="554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611280" y="2852640"/>
            <a:ext cx="3325680" cy="225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4284720" y="1125360"/>
            <a:ext cx="4032360" cy="55436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0"/>
          <p:cNvSpPr/>
          <p:nvPr/>
        </p:nvSpPr>
        <p:spPr>
          <a:xfrm>
            <a:off x="4716360" y="1700280"/>
            <a:ext cx="338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щ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е  великий русский ученый, математик и механик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Леонард Эйлер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яснил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авило умножения отрицательных чисе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но следующим 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сно, что (-2)*3=(-6). Поэтому произ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-2)*(-3) не может быть равно (-6). Однако оно должно быть связано как-то с числом 6. Остается одна возмож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-2)*(-3)=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1"/>
          <p:cNvSpPr/>
          <p:nvPr/>
        </p:nvSpPr>
        <p:spPr>
          <a:xfrm>
            <a:off x="2340000" y="2133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89000"/>
            <a:ext cx="7993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множим (-2)∙(-3)=?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получим (-6) или 6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4" descr=""/>
          <p:cNvPicPr/>
          <p:nvPr/>
        </p:nvPicPr>
        <p:blipFill>
          <a:blip r:embed="rId1"/>
          <a:stretch/>
        </p:blipFill>
        <p:spPr>
          <a:xfrm>
            <a:off x="395280" y="4508640"/>
            <a:ext cx="8424720" cy="1657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Другой способ доказать, что  (-3)*(-2)=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 изменении знака любого множителя знак произведения меняется, а модуль остается тот же. А если меняется знак у обоих множителей, то в этом случае знак изменится дважды, то есть результат останется без измен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 ∙ 3 = 6;      -2 ∙ 3 = -6;     (-2) ∙ (-3) = -(-6) = 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тобы перемножить два отрицательных числа, надо перемножить их модул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-5) ∙ (-3) = 5 ∙ 3 = 15;     -10 ∙ (-7) = 10 ∙ 7 = 7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4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8424720" cy="1657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верим данные правила, решая практические задач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Задача №1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79280" y="1915920"/>
            <a:ext cx="6707160" cy="42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емпература воздуха повышается каждый час на два градуса. Сейчас термометр показывает 0 градусов. Какую температуру он покажет через 3 час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916360" y="5084640"/>
            <a:ext cx="388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 * 3 = 6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Freeform 5"/>
          <p:cNvSpPr/>
          <p:nvPr/>
        </p:nvSpPr>
        <p:spPr>
          <a:xfrm>
            <a:off x="824040" y="378000"/>
            <a:ext cx="4680" cy="6400800"/>
          </a:xfrm>
          <a:custGeom>
            <a:avLst/>
            <a:gdLst>
              <a:gd name="textAreaLeft" fmla="*/ 0 w 4680"/>
              <a:gd name="textAreaRight" fmla="*/ 5040 w 468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w="3" h="4032">
                <a:moveTo>
                  <a:pt x="3" y="0"/>
                </a:moveTo>
                <a:lnTo>
                  <a:pt x="0" y="4032"/>
                </a:lnTo>
              </a:path>
            </a:pathLst>
          </a:cu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17440" y="378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17440" y="88092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79280" y="1413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79280" y="19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73080" y="31129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217440" y="2610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-36360" y="3645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0" y="4149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73080" y="4697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73080" y="5202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73080" y="5705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684360" y="2349360"/>
            <a:ext cx="287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649440" y="181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649440" y="127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649440" y="7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649440" y="34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3"/>
          <p:cNvSpPr/>
          <p:nvPr/>
        </p:nvSpPr>
        <p:spPr>
          <a:xfrm>
            <a:off x="649440" y="397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649440" y="451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5"/>
          <p:cNvSpPr/>
          <p:nvPr/>
        </p:nvSpPr>
        <p:spPr>
          <a:xfrm>
            <a:off x="649440" y="505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>
            <a:off x="649440" y="559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649440" y="6138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8"/>
          <p:cNvSpPr/>
          <p:nvPr/>
        </p:nvSpPr>
        <p:spPr>
          <a:xfrm>
            <a:off x="0" y="404640"/>
            <a:ext cx="1584360" cy="6453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53360"/>
              <a:gd name="textAreaBottom" fmla="*/ 6376320 h 6453360"/>
            </a:gdLst>
            <a:ahLst/>
            <a:rect l="textAreaLeft" t="textAreaTop" r="textAreaRight" b="textAreaBottom"/>
            <a:pathLst>
              <a:path w="21600" h="87965">
                <a:moveTo>
                  <a:pt x="3600" y="0"/>
                </a:moveTo>
                <a:arcTo wR="3600" hR="3600" stAng="16200000" swAng="-5400000"/>
                <a:lnTo>
                  <a:pt x="0" y="84365"/>
                </a:lnTo>
                <a:arcTo wR="3600" hR="3600" stAng="10800000" swAng="-5400000"/>
                <a:lnTo>
                  <a:pt x="18000" y="879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9"/>
          <p:cNvSpPr/>
          <p:nvPr/>
        </p:nvSpPr>
        <p:spPr>
          <a:xfrm>
            <a:off x="684360" y="4005360"/>
            <a:ext cx="358560" cy="263520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635200"/>
              <a:gd name="textAreaBottom" fmla="*/ 2617920 h 2635200"/>
            </a:gdLst>
            <a:ahLst/>
            <a:rect l="textAreaLeft" t="textAreaTop" r="textAreaRight" b="textAreaBottom"/>
            <a:pathLst>
              <a:path w="21600" h="158609">
                <a:moveTo>
                  <a:pt x="3600" y="0"/>
                </a:moveTo>
                <a:arcTo wR="3600" hR="3600" stAng="16200000" swAng="-5400000"/>
                <a:lnTo>
                  <a:pt x="0" y="155009"/>
                </a:lnTo>
                <a:arcTo wR="3600" hR="3600" stAng="10800000" swAng="-5400000"/>
                <a:lnTo>
                  <a:pt x="18000" y="158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5"/>
          <p:cNvSpPr/>
          <p:nvPr/>
        </p:nvSpPr>
        <p:spPr>
          <a:xfrm flipV="1">
            <a:off x="1258920" y="2852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 flipV="1">
            <a:off x="1258920" y="691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5"/>
          <p:cNvSpPr/>
          <p:nvPr/>
        </p:nvSpPr>
        <p:spPr>
          <a:xfrm flipV="1">
            <a:off x="1258920" y="177300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684360" y="2924280"/>
            <a:ext cx="287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Задача №2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50920" y="1989000"/>
            <a:ext cx="69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емпература воздуха понижается каждый час на два градуса. Сейчас термометр показывает 0 градусов. Какую температуру он покажет через 3 час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771640" y="5373720"/>
            <a:ext cx="446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-2) * 3 = -6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8" name="Group 32"/>
          <p:cNvGrpSpPr/>
          <p:nvPr/>
        </p:nvGrpSpPr>
        <p:grpSpPr>
          <a:xfrm>
            <a:off x="0" y="378000"/>
            <a:ext cx="1584360" cy="6480000"/>
            <a:chOff x="0" y="378000"/>
            <a:chExt cx="1584360" cy="6480000"/>
          </a:xfrm>
        </p:grpSpPr>
        <p:sp>
          <p:nvSpPr>
            <p:cNvPr id="149" name="Freeform 5"/>
            <p:cNvSpPr/>
            <p:nvPr/>
          </p:nvSpPr>
          <p:spPr>
            <a:xfrm>
              <a:off x="824040" y="378000"/>
              <a:ext cx="4680" cy="6400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w="3" h="4032">
                  <a:moveTo>
                    <a:pt x="3" y="0"/>
                  </a:moveTo>
                  <a:lnTo>
                    <a:pt x="0" y="4032"/>
                  </a:lnTo>
                </a:path>
              </a:pathLst>
            </a:custGeom>
            <a:noFill/>
            <a:ln w="69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217440" y="378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7"/>
            <p:cNvSpPr/>
            <p:nvPr/>
          </p:nvSpPr>
          <p:spPr>
            <a:xfrm>
              <a:off x="217440" y="88092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8"/>
            <p:cNvSpPr/>
            <p:nvPr/>
          </p:nvSpPr>
          <p:spPr>
            <a:xfrm>
              <a:off x="217440" y="1386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9"/>
            <p:cNvSpPr/>
            <p:nvPr/>
          </p:nvSpPr>
          <p:spPr>
            <a:xfrm>
              <a:off x="217440" y="1962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0"/>
            <p:cNvSpPr/>
            <p:nvPr/>
          </p:nvSpPr>
          <p:spPr>
            <a:xfrm>
              <a:off x="73080" y="31129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1"/>
            <p:cNvSpPr/>
            <p:nvPr/>
          </p:nvSpPr>
          <p:spPr>
            <a:xfrm>
              <a:off x="217440" y="261000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73080" y="361800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3"/>
            <p:cNvSpPr/>
            <p:nvPr/>
          </p:nvSpPr>
          <p:spPr>
            <a:xfrm>
              <a:off x="73080" y="41227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73080" y="469728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73080" y="520236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73080" y="570564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7"/>
            <p:cNvSpPr/>
            <p:nvPr/>
          </p:nvSpPr>
          <p:spPr>
            <a:xfrm>
              <a:off x="649080" y="235728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8"/>
            <p:cNvSpPr/>
            <p:nvPr/>
          </p:nvSpPr>
          <p:spPr>
            <a:xfrm>
              <a:off x="722160" y="2862360"/>
              <a:ext cx="179640" cy="179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9"/>
            <p:cNvSpPr/>
            <p:nvPr/>
          </p:nvSpPr>
          <p:spPr>
            <a:xfrm>
              <a:off x="649080" y="181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0"/>
            <p:cNvSpPr/>
            <p:nvPr/>
          </p:nvSpPr>
          <p:spPr>
            <a:xfrm>
              <a:off x="649080" y="127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>
              <a:off x="649080" y="7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2"/>
            <p:cNvSpPr/>
            <p:nvPr/>
          </p:nvSpPr>
          <p:spPr>
            <a:xfrm>
              <a:off x="649080" y="34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3"/>
            <p:cNvSpPr/>
            <p:nvPr/>
          </p:nvSpPr>
          <p:spPr>
            <a:xfrm>
              <a:off x="649080" y="397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4"/>
            <p:cNvSpPr/>
            <p:nvPr/>
          </p:nvSpPr>
          <p:spPr>
            <a:xfrm>
              <a:off x="649080" y="451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5"/>
            <p:cNvSpPr/>
            <p:nvPr/>
          </p:nvSpPr>
          <p:spPr>
            <a:xfrm>
              <a:off x="649080" y="505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6"/>
            <p:cNvSpPr/>
            <p:nvPr/>
          </p:nvSpPr>
          <p:spPr>
            <a:xfrm>
              <a:off x="649080" y="559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>
              <a:off x="649080" y="613872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28"/>
            <p:cNvSpPr/>
            <p:nvPr/>
          </p:nvSpPr>
          <p:spPr>
            <a:xfrm>
              <a:off x="0" y="378000"/>
              <a:ext cx="1584360" cy="648000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6480000"/>
                <a:gd name="textAreaBottom" fmla="*/ 6402960 h 6480000"/>
              </a:gdLst>
              <a:ahLst/>
              <a:rect l="textAreaLeft" t="textAreaTop" r="textAreaRight" b="textAreaBottom"/>
              <a:pathLst>
                <a:path w="21600" h="88328">
                  <a:moveTo>
                    <a:pt x="3600" y="0"/>
                  </a:moveTo>
                  <a:arcTo wR="3600" hR="3600" stAng="16200000" swAng="-5400000"/>
                  <a:lnTo>
                    <a:pt x="0" y="84728"/>
                  </a:lnTo>
                  <a:arcTo wR="3600" hR="3600" stAng="10800000" swAng="-5400000"/>
                  <a:lnTo>
                    <a:pt x="18000" y="883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29"/>
            <p:cNvSpPr/>
            <p:nvPr/>
          </p:nvSpPr>
          <p:spPr>
            <a:xfrm>
              <a:off x="647640" y="2924280"/>
              <a:ext cx="358920" cy="3716280"/>
            </a:xfrm>
            <a:custGeom>
              <a:avLst/>
              <a:gdLst>
                <a:gd name="textAreaLeft" fmla="*/ 17280 w 358920"/>
                <a:gd name="textAreaRight" fmla="*/ 341640 w 358920"/>
                <a:gd name="textAreaTop" fmla="*/ 17280 h 3716280"/>
                <a:gd name="textAreaBottom" fmla="*/ 3699000 h 3716280"/>
              </a:gdLst>
              <a:ahLst/>
              <a:rect l="textAreaLeft" t="textAreaTop" r="textAreaRight" b="textAreaBottom"/>
              <a:pathLst>
                <a:path w="21600" h="223445">
                  <a:moveTo>
                    <a:pt x="3600" y="0"/>
                  </a:moveTo>
                  <a:arcTo wR="3600" hR="3600" stAng="16200000" swAng="-5400000"/>
                  <a:lnTo>
                    <a:pt x="0" y="219845"/>
                  </a:lnTo>
                  <a:arcTo wR="3600" hR="3600" stAng="10800000" swAng="-5400000"/>
                  <a:lnTo>
                    <a:pt x="18000" y="2234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>
                <a:alpha val="75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Line 33"/>
          <p:cNvSpPr/>
          <p:nvPr/>
        </p:nvSpPr>
        <p:spPr>
          <a:xfrm flipV="1">
            <a:off x="1258920" y="2923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3"/>
          <p:cNvSpPr/>
          <p:nvPr/>
        </p:nvSpPr>
        <p:spPr>
          <a:xfrm flipV="1">
            <a:off x="1258920" y="400500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3"/>
          <p:cNvSpPr/>
          <p:nvPr/>
        </p:nvSpPr>
        <p:spPr>
          <a:xfrm flipV="1">
            <a:off x="1258920" y="5084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Задача №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34920" y="1989000"/>
            <a:ext cx="71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емпература воздуха понижается каждый час на 2 градуса. Сейчас термометр показывает 0 градусов. Какую температуру воздуха показывал термометр 3 часа назад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411280" y="5300640"/>
            <a:ext cx="518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f01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-2) * (-3) = 6</a:t>
            </a:r>
            <a:endParaRPr b="1" lang="en-US" sz="1800" spc="1" strike="noStrike">
              <a:ln w="12600">
                <a:solidFill>
                  <a:srgbClr val="ffcf01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Freeform 5"/>
          <p:cNvSpPr/>
          <p:nvPr/>
        </p:nvSpPr>
        <p:spPr>
          <a:xfrm>
            <a:off x="824040" y="378000"/>
            <a:ext cx="4680" cy="6400800"/>
          </a:xfrm>
          <a:custGeom>
            <a:avLst/>
            <a:gdLst>
              <a:gd name="textAreaLeft" fmla="*/ 0 w 4680"/>
              <a:gd name="textAreaRight" fmla="*/ 5040 w 468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w="3" h="4032">
                <a:moveTo>
                  <a:pt x="3" y="0"/>
                </a:moveTo>
                <a:lnTo>
                  <a:pt x="0" y="4032"/>
                </a:lnTo>
              </a:path>
            </a:pathLst>
          </a:cu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50920" y="404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217440" y="88092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217440" y="1386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217440" y="1962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73080" y="31129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217440" y="2610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73080" y="3618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73080" y="4122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73080" y="4697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73080" y="5202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73080" y="5705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684360" y="23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8"/>
          <p:cNvSpPr/>
          <p:nvPr/>
        </p:nvSpPr>
        <p:spPr>
          <a:xfrm>
            <a:off x="755640" y="393372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"/>
          <p:cNvSpPr/>
          <p:nvPr/>
        </p:nvSpPr>
        <p:spPr>
          <a:xfrm>
            <a:off x="649440" y="181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649440" y="127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649440" y="7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2"/>
          <p:cNvSpPr/>
          <p:nvPr/>
        </p:nvSpPr>
        <p:spPr>
          <a:xfrm>
            <a:off x="649440" y="34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3"/>
          <p:cNvSpPr/>
          <p:nvPr/>
        </p:nvSpPr>
        <p:spPr>
          <a:xfrm>
            <a:off x="682560" y="29242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"/>
          <p:cNvSpPr/>
          <p:nvPr/>
        </p:nvSpPr>
        <p:spPr>
          <a:xfrm>
            <a:off x="649440" y="451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5"/>
          <p:cNvSpPr/>
          <p:nvPr/>
        </p:nvSpPr>
        <p:spPr>
          <a:xfrm>
            <a:off x="649440" y="505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6"/>
          <p:cNvSpPr/>
          <p:nvPr/>
        </p:nvSpPr>
        <p:spPr>
          <a:xfrm>
            <a:off x="649440" y="559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7"/>
          <p:cNvSpPr/>
          <p:nvPr/>
        </p:nvSpPr>
        <p:spPr>
          <a:xfrm>
            <a:off x="649440" y="6138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8"/>
          <p:cNvSpPr/>
          <p:nvPr/>
        </p:nvSpPr>
        <p:spPr>
          <a:xfrm>
            <a:off x="0" y="404640"/>
            <a:ext cx="1584360" cy="6453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53360"/>
              <a:gd name="textAreaBottom" fmla="*/ 6376320 h 6453360"/>
            </a:gdLst>
            <a:ahLst/>
            <a:rect l="textAreaLeft" t="textAreaTop" r="textAreaRight" b="textAreaBottom"/>
            <a:pathLst>
              <a:path w="21600" h="87965">
                <a:moveTo>
                  <a:pt x="3600" y="0"/>
                </a:moveTo>
                <a:arcTo wR="3600" hR="3600" stAng="16200000" swAng="-5400000"/>
                <a:lnTo>
                  <a:pt x="0" y="84365"/>
                </a:lnTo>
                <a:arcTo wR="3600" hR="3600" stAng="10800000" swAng="-5400000"/>
                <a:lnTo>
                  <a:pt x="18000" y="879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9"/>
          <p:cNvSpPr/>
          <p:nvPr/>
        </p:nvSpPr>
        <p:spPr>
          <a:xfrm>
            <a:off x="684360" y="4005360"/>
            <a:ext cx="358560" cy="263520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635200"/>
              <a:gd name="textAreaBottom" fmla="*/ 2617920 h 2635200"/>
            </a:gdLst>
            <a:ahLst/>
            <a:rect l="textAreaLeft" t="textAreaTop" r="textAreaRight" b="textAreaBottom"/>
            <a:pathLst>
              <a:path w="21600" h="158609">
                <a:moveTo>
                  <a:pt x="3600" y="0"/>
                </a:moveTo>
                <a:arcTo wR="3600" hR="3600" stAng="16200000" swAng="-5400000"/>
                <a:lnTo>
                  <a:pt x="0" y="155009"/>
                </a:lnTo>
                <a:arcTo wR="3600" hR="3600" stAng="10800000" swAng="-5400000"/>
                <a:lnTo>
                  <a:pt x="18000" y="158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3"/>
          <p:cNvSpPr/>
          <p:nvPr/>
        </p:nvSpPr>
        <p:spPr>
          <a:xfrm flipV="1">
            <a:off x="1187280" y="691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3"/>
          <p:cNvSpPr/>
          <p:nvPr/>
        </p:nvSpPr>
        <p:spPr>
          <a:xfrm flipV="1">
            <a:off x="1187280" y="1844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3"/>
          <p:cNvSpPr/>
          <p:nvPr/>
        </p:nvSpPr>
        <p:spPr>
          <a:xfrm flipV="1">
            <a:off x="1187280" y="2923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ижний колонтитул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4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7929360" cy="46087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>
            <a:off x="1403280" y="1125360"/>
            <a:ext cx="678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авила  знаков при  умноже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+ ) · ( + ) =  ( +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– ) · ( – ) =  ( +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+ ) · ( – ) =  ( –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– ) · ( + ) =  ( –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4:15:15Z</dcterms:created>
  <dc:creator>Мелкомуковы</dc:creator>
  <dc:description/>
  <dc:language>en-US</dc:language>
  <cp:lastModifiedBy>Мелкомуковы</cp:lastModifiedBy>
  <dcterms:modified xsi:type="dcterms:W3CDTF">2012-03-05T15:58:54Z</dcterms:modified>
  <cp:revision>6</cp:revision>
  <dc:subject/>
  <dc:title>Умножение положительных и отрицательных чисел</dc:title>
</cp:coreProperties>
</file>